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F0F-18E5-4C7C-B036-961FA6CA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762-692C-4AAA-A139-36707A16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BBE-EB45-48B2-AE18-474D54C7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B3B-968A-4AD1-8EB0-7FD61770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6F01-AED4-406A-A48B-5C7E5E5F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0186-2C2B-466C-A6FD-59A84DF0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D4C6-E270-4679-8007-C4D381D2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91AB-5251-4C6E-A33D-BC30A5BB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4995-E6A3-4B43-A61D-CA86730B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CD33-FBAF-48C1-8938-D5814900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CF6E-8760-4A8D-B155-D976701F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561-972B-4453-A0AB-AC48408C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C06D-335F-4F21-8936-B3125B1C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64E6-5387-48A6-A2B8-D3E5014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3FC7-B060-4257-A6AF-89DBCBF7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0018-8C31-41D6-912A-6DE4ACD7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EF0B-6091-46C6-B310-57300E50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E14-AC26-46DF-8BF4-A460B062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929-6C7B-4220-96C8-9DF6805E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DE5-A5C1-4FC8-8AA6-50346753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F31-EC3C-4F29-A51E-CAF162F2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2E3-8DB9-4153-A8E7-5A0164D1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9FA-2276-4DF5-BCF5-2EE2FDBC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691-90F8-4A01-A258-7EC5E1B8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54F7-1C7C-4BDD-8658-61DF4D427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6200-7C0C-464C-AB1F-054467268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Assess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 2 Prescribed Su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cemaking and peacekeeping - international relations, 1918-19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ab Israeli conflict, 1945-19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in Crisis, 1976-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cribed Subjec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s of the participants and peacemakers: Wilson and the Fourteen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of the tre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the treaties in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ment, US isolationism, con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hr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 a &amp; threats to Peace - Manchuria &amp; Abyssi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cribed Subjec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years of British mandate, UNSCOP, partition, civil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ish withdrawal, establishment of Israel, ‘48-’49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phic shifts, economic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ez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abism &amp; Zionism, emergence of 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Day War and October 1973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of USA, USSR,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 David &amp; Egyptian Israeli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cribed Subjec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Mao struggle for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 under Deng Xiaoping - economic policies, 4 moder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 under Deng Xiaoping - political changes up  to Tiananmen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estic and Foreign problems in the Brezhnev 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rbachev aims/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s of Gorbachev in eastern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 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 4 questions on 1 of 3 Prescribed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 out of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importance (S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erstanding (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and contr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ource S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ources 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sources OPV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sources and Contextu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the worst done of the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less points dro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worth 3 points - write 3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ill be more background info given for the visual/cartoon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ly the best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approach is the b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urage bulle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and contrast with good lin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link the two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VL point-form is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note that it being a translation is a lim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note that it being an excerpt is a lim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y away from “primary” &amp; “secondar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source” is often noted as a limitation -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in terms of “What can the source tell me and what can’t the source tell me?” for strengths and 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when relevant background of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knowledge &amp; sources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aste time writing an introduction and conclusion - thesis is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 everything back to th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your point of view (thesis) and stick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quote at length, but reference the d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how origin impacts truthfu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away from mere paraphrasing repetition or summary of docs . .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interpretation &amp;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t time roughly based on point val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isto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importance of histo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historical sources a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an understanding of historical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and synthesize sources from both historical sources and and background knowle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02400" y="94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5:41:37Z</dcterms:created>
  <dc:creator>David Smith User</dc:creator>
  <dc:description/>
  <dc:language>en-US</dc:language>
  <cp:lastModifiedBy>LTCHS</cp:lastModifiedBy>
  <dcterms:modified xsi:type="dcterms:W3CDTF">2008-04-17T18:12:02Z</dcterms:modified>
  <cp:revision>29</cp:revision>
  <dc:subject/>
  <dc:title>External Assessment </dc:title>
</cp:coreProperties>
</file>